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5A3-1CB1-41BD-9520-5E638D69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E3E-6A03-4CD4-B3B2-77657E2B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10A-31FA-4B78-B09E-95FF92A6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DCB-EC1D-4DB6-8878-FA83278E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9E9-EA94-4483-971B-51D20707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496-1FAF-4096-968D-803D4A16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0E2-1B49-4414-BB32-160A25E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E56-2264-459F-BFCA-775A2E7A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1DB-15CF-40FA-A2CA-44C1BD74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632-896C-4C15-B31E-C0C32E4F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276-BE22-47E2-8E42-72CD8BFB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F64-7D7F-4D4F-93CB-FB0A0858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EB06-DA2D-4986-A8EB-A1F9A37FA37C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7200" spc="-1" strike="noStrike">
                <a:solidFill>
                  <a:srgbClr val="ffffff"/>
                </a:solidFill>
                <a:latin typeface="comic"/>
              </a:rPr>
              <a:t>COMPOSTING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14440"/>
            <a:ext cx="64008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Magalí Zorraind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Calibri"/>
              </a:rPr>
              <a:t>What is composting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Compost is applied complex microbiology, with interactions of thousands of different species of micro organisms organized inside a really complex ecosystem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ffffff"/>
                </a:solidFill>
                <a:latin typeface="Arial"/>
                <a:ea typeface="Arial"/>
              </a:rPr>
              <a:t>Compost have organic matt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Composting process kills weed seeds and deletes human and plant pathogens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ctivities to green the 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In my school there are recycling bins to recycle cardboard and paper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re is a bin to recycle batteries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re are some solar panel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Calibri"/>
              </a:rPr>
              <a:t>Activities to green the 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y could include a green zone in the school yar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y could put a recycling bin for the bottl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y could employ recycled paper to do the photocopies that we u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9600" spc="-1" strike="noStrike">
                <a:solidFill>
                  <a:srgbClr val="ffffff"/>
                </a:solidFill>
                <a:latin typeface="comic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20:06:58Z</dcterms:created>
  <dc:creator>Maggie&amp;Axel</dc:creator>
  <dc:description/>
  <dc:language>en-US</dc:language>
  <cp:lastModifiedBy>Generalitat de Catalunya</cp:lastModifiedBy>
  <dcterms:modified xsi:type="dcterms:W3CDTF">2011-03-20T13:07:51Z</dcterms:modified>
  <cp:revision>2</cp:revision>
  <dc:subject/>
  <dc:title>COMPOSTING</dc:title>
</cp:coreProperties>
</file>